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FD2-4A4D-4CE8-B2A3-F09451A2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9636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4230-A4B4-4189-A65C-06A805D0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0B8-DC57-433B-91E3-C5585EA0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80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80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27D-9DF7-433E-80F9-3A47EE76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14A-8163-4ED4-87C8-CAD523EB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9BF-540B-46D7-8C37-1259BC7E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035B-26DE-477C-AFD8-91C386FC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E6C-9AC4-4DE6-B0CD-047E3282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9000"/>
            <a:ext cx="82324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0C5F-ACC0-4E26-AC0C-4428FD27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B6C0-27CD-4763-AAF9-EB2324EC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064F-3FC1-463C-BE6C-48E2B452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016-9B34-4875-8430-ED2527CE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57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5400" y="6243120"/>
            <a:ext cx="2136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280" y="6243120"/>
            <a:ext cx="2136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7183-44D9-475B-80AA-3F032F899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asic Motor Contro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VVV2011 Tutori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orenzo Natal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2281320" y="1581120"/>
            <a:ext cx="1393920" cy="1087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6008760" y="1549440"/>
            <a:ext cx="1393920" cy="1089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4222440" y="2400480"/>
            <a:ext cx="14943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t pos 0 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t vel 1 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t enc 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ight Arrow 12"/>
          <p:cNvSpPr/>
          <p:nvPr/>
        </p:nvSpPr>
        <p:spPr>
          <a:xfrm>
            <a:off x="3819600" y="2017800"/>
            <a:ext cx="2138400" cy="411120"/>
          </a:xfrm>
          <a:prstGeom prst="rightArrow">
            <a:avLst>
              <a:gd name="adj1" fmla="val 50000"/>
              <a:gd name="adj2" fmla="val 4994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ight Arrow 13"/>
          <p:cNvSpPr/>
          <p:nvPr/>
        </p:nvSpPr>
        <p:spPr>
          <a:xfrm rot="10800000">
            <a:off x="3816000" y="1647720"/>
            <a:ext cx="2141640" cy="409680"/>
          </a:xfrm>
          <a:prstGeom prst="rightArrow">
            <a:avLst>
              <a:gd name="adj1" fmla="val 50000"/>
              <a:gd name="adj2" fmla="val 5009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4209120" y="969840"/>
            <a:ext cx="1011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c is 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k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1394280" y="1009800"/>
            <a:ext cx="2407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mote_controlboa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6"/>
          <p:cNvSpPr/>
          <p:nvPr/>
        </p:nvSpPr>
        <p:spPr>
          <a:xfrm>
            <a:off x="6026400" y="1025640"/>
            <a:ext cx="2326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er_controlboa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5778360" y="609480"/>
            <a:ext cx="2959200" cy="3468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8"/>
          <p:cNvSpPr/>
          <p:nvPr/>
        </p:nvSpPr>
        <p:spPr>
          <a:xfrm>
            <a:off x="5791680" y="225360"/>
            <a:ext cx="1761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mulator/iCu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1871640" y="4240080"/>
            <a:ext cx="30762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client/left_arm/rpc: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client/left_arm/state: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client/left_arm/command: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5690520" y="4240080"/>
            <a:ext cx="34239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iCubSim/left_arm/rpc: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iCubSim/left_arm/state: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iCubSim/left_arm/command: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804240" y="1411200"/>
            <a:ext cx="144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osition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elocity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nco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2"/>
          <p:cNvSpPr/>
          <p:nvPr/>
        </p:nvSpPr>
        <p:spPr>
          <a:xfrm>
            <a:off x="561960" y="457200"/>
            <a:ext cx="1279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52600" y="969840"/>
            <a:ext cx="3395520" cy="2949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2240640" y="158256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onMov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Encoder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olyDrive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49720" y="1792440"/>
            <a:ext cx="2729160" cy="3135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365880" y="2873520"/>
            <a:ext cx="1249200" cy="1495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5962680" y="1830240"/>
            <a:ext cx="1291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lyDri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6571440" y="2944800"/>
            <a:ext cx="98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viceDri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2135520" y="2387520"/>
            <a:ext cx="1683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en(param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13"/>
          <p:cNvCxnSpPr/>
          <p:nvPr/>
        </p:nvCxnSpPr>
        <p:spPr>
          <a:xfrm>
            <a:off x="4064040" y="2558520"/>
            <a:ext cx="1543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14"/>
          <p:cNvCxnSpPr/>
          <p:nvPr/>
        </p:nvCxnSpPr>
        <p:spPr>
          <a:xfrm>
            <a:off x="4041360" y="4601880"/>
            <a:ext cx="154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TextBox 15"/>
          <p:cNvSpPr/>
          <p:nvPr/>
        </p:nvSpPr>
        <p:spPr>
          <a:xfrm>
            <a:off x="2044800" y="4376880"/>
            <a:ext cx="90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ose(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/>
          <p:nvPr/>
        </p:nvCxnSpPr>
        <p:spPr>
          <a:xfrm flipH="1">
            <a:off x="4025520" y="2987280"/>
            <a:ext cx="156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TextBox 21"/>
          <p:cNvSpPr/>
          <p:nvPr/>
        </p:nvSpPr>
        <p:spPr>
          <a:xfrm>
            <a:off x="1952280" y="2809800"/>
            <a:ext cx="1883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iew(interface1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2"/>
          <p:cNvSpPr/>
          <p:nvPr/>
        </p:nvSpPr>
        <p:spPr>
          <a:xfrm>
            <a:off x="1952280" y="3222720"/>
            <a:ext cx="1883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iew(interface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6367680" y="3135240"/>
            <a:ext cx="71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s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35"/>
          <p:cNvCxnSpPr/>
          <p:nvPr/>
        </p:nvCxnSpPr>
        <p:spPr>
          <a:xfrm>
            <a:off x="3859200" y="3858840"/>
            <a:ext cx="23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TextBox 36"/>
          <p:cNvSpPr/>
          <p:nvPr/>
        </p:nvSpPr>
        <p:spPr>
          <a:xfrm>
            <a:off x="1950840" y="362268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 interface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7"/>
          <p:cNvSpPr/>
          <p:nvPr/>
        </p:nvSpPr>
        <p:spPr>
          <a:xfrm>
            <a:off x="1950840" y="398772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 interface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38"/>
          <p:cNvCxnSpPr/>
          <p:nvPr/>
        </p:nvCxnSpPr>
        <p:spPr>
          <a:xfrm>
            <a:off x="3871800" y="4130280"/>
            <a:ext cx="2363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Rectangle 39"/>
          <p:cNvSpPr/>
          <p:nvPr/>
        </p:nvSpPr>
        <p:spPr>
          <a:xfrm>
            <a:off x="1828800" y="1862280"/>
            <a:ext cx="2279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3"/>
          <p:cNvSpPr/>
          <p:nvPr/>
        </p:nvSpPr>
        <p:spPr>
          <a:xfrm>
            <a:off x="1793880" y="1793880"/>
            <a:ext cx="2433600" cy="331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52"/>
          <p:cNvCxnSpPr/>
          <p:nvPr/>
        </p:nvCxnSpPr>
        <p:spPr>
          <a:xfrm flipH="1">
            <a:off x="4034880" y="3447720"/>
            <a:ext cx="153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otor Control Tutoria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otor Control Interfac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olyDriv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traight Connector 121"/>
          <p:cNvSpPr/>
          <p:nvPr/>
        </p:nvSpPr>
        <p:spPr>
          <a:xfrm>
            <a:off x="4275000" y="5735520"/>
            <a:ext cx="2095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112"/>
          <p:cNvSpPr/>
          <p:nvPr/>
        </p:nvSpPr>
        <p:spPr>
          <a:xfrm>
            <a:off x="4257720" y="4361040"/>
            <a:ext cx="2095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77"/>
          <p:cNvSpPr/>
          <p:nvPr/>
        </p:nvSpPr>
        <p:spPr>
          <a:xfrm>
            <a:off x="4294080" y="5607000"/>
            <a:ext cx="300240" cy="2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866960" y="925560"/>
            <a:ext cx="2801880" cy="1989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11"/>
          <p:cNvCxnSpPr/>
          <p:nvPr/>
        </p:nvCxnSpPr>
        <p:spPr>
          <a:xfrm>
            <a:off x="1866600" y="925200"/>
            <a:ext cx="1053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12"/>
          <p:cNvCxnSpPr/>
          <p:nvPr/>
        </p:nvCxnSpPr>
        <p:spPr>
          <a:xfrm>
            <a:off x="1874520" y="925560"/>
            <a:ext cx="1080" cy="668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7" name="Group 50"/>
          <p:cNvGrpSpPr/>
          <p:nvPr/>
        </p:nvGrpSpPr>
        <p:grpSpPr>
          <a:xfrm>
            <a:off x="3178080" y="1794960"/>
            <a:ext cx="1053000" cy="668880"/>
            <a:chOff x="3178080" y="1794960"/>
            <a:chExt cx="1053000" cy="668880"/>
          </a:xfrm>
        </p:grpSpPr>
        <p:cxnSp>
          <p:nvCxnSpPr>
            <p:cNvPr id="88" name="Straight Arrow Connector 15"/>
            <p:cNvCxnSpPr/>
            <p:nvPr/>
          </p:nvCxnSpPr>
          <p:spPr>
            <a:xfrm>
              <a:off x="3178080" y="1794960"/>
              <a:ext cx="1053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9" name="Straight Arrow Connector 16"/>
            <p:cNvCxnSpPr/>
            <p:nvPr/>
          </p:nvCxnSpPr>
          <p:spPr>
            <a:xfrm>
              <a:off x="3184920" y="1794960"/>
              <a:ext cx="1080" cy="669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90" name="TextBox 19"/>
          <p:cNvSpPr/>
          <p:nvPr/>
        </p:nvSpPr>
        <p:spPr>
          <a:xfrm>
            <a:off x="1870920" y="530280"/>
            <a:ext cx="488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,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10"/>
          <p:cNvGrpSpPr/>
          <p:nvPr/>
        </p:nvGrpSpPr>
        <p:grpSpPr>
          <a:xfrm>
            <a:off x="4013640" y="3628440"/>
            <a:ext cx="3112920" cy="2125800"/>
            <a:chOff x="4013640" y="3628440"/>
            <a:chExt cx="3112920" cy="2125800"/>
          </a:xfrm>
        </p:grpSpPr>
        <p:sp>
          <p:nvSpPr>
            <p:cNvPr id="92" name="Straight Connector 76"/>
            <p:cNvSpPr/>
            <p:nvPr/>
          </p:nvSpPr>
          <p:spPr>
            <a:xfrm>
              <a:off x="4402080" y="4402440"/>
              <a:ext cx="41760" cy="134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109"/>
            <p:cNvGrpSpPr/>
            <p:nvPr/>
          </p:nvGrpSpPr>
          <p:grpSpPr>
            <a:xfrm>
              <a:off x="4013640" y="3628440"/>
              <a:ext cx="3112920" cy="861480"/>
              <a:chOff x="4013640" y="3628440"/>
              <a:chExt cx="3112920" cy="861480"/>
            </a:xfrm>
          </p:grpSpPr>
          <p:sp>
            <p:nvSpPr>
              <p:cNvPr id="94" name="Straight Connector 70"/>
              <p:cNvSpPr/>
              <p:nvPr/>
            </p:nvSpPr>
            <p:spPr>
              <a:xfrm flipV="1">
                <a:off x="4068720" y="3628440"/>
                <a:ext cx="3057840" cy="77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73"/>
              <p:cNvSpPr/>
              <p:nvPr/>
            </p:nvSpPr>
            <p:spPr>
              <a:xfrm rot="20750400">
                <a:off x="4023000" y="4236480"/>
                <a:ext cx="717120" cy="168120"/>
              </a:xfrm>
              <a:prstGeom prst="rect">
                <a:avLst/>
              </a:prstGeom>
              <a:solidFill>
                <a:srgbClr val="59595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74"/>
            <p:cNvSpPr/>
            <p:nvPr/>
          </p:nvSpPr>
          <p:spPr>
            <a:xfrm rot="21498000">
              <a:off x="4335120" y="5352480"/>
              <a:ext cx="203040" cy="39852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Arc 118"/>
          <p:cNvSpPr/>
          <p:nvPr/>
        </p:nvSpPr>
        <p:spPr>
          <a:xfrm rot="2313600">
            <a:off x="4797360" y="4052880"/>
            <a:ext cx="436680" cy="388800"/>
          </a:xfrm>
          <a:custGeom>
            <a:avLst/>
            <a:gdLst/>
            <a:ahLst/>
            <a:rect l="l" t="t" r="r" b="b"/>
            <a:pathLst>
              <a:path stroke="0" w="436563" h="388937">
                <a:moveTo>
                  <a:pt x="218281" y="0"/>
                </a:moveTo>
                <a:cubicBezTo>
                  <a:pt x="338835" y="0"/>
                  <a:pt x="436563" y="87067"/>
                  <a:pt x="436563" y="194469"/>
                </a:cubicBezTo>
                <a:lnTo>
                  <a:pt x="218282" y="194469"/>
                </a:lnTo>
                <a:cubicBezTo>
                  <a:pt x="218282" y="129646"/>
                  <a:pt x="218281" y="64823"/>
                  <a:pt x="218281" y="0"/>
                </a:cubicBezTo>
                <a:close/>
              </a:path>
              <a:path fill="none" w="436563" h="388937">
                <a:moveTo>
                  <a:pt x="218281" y="0"/>
                </a:moveTo>
                <a:cubicBezTo>
                  <a:pt x="338835" y="0"/>
                  <a:pt x="436563" y="87067"/>
                  <a:pt x="436563" y="1944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9"/>
          <p:cNvSpPr/>
          <p:nvPr/>
        </p:nvSpPr>
        <p:spPr>
          <a:xfrm>
            <a:off x="5194800" y="40608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ultiply 120"/>
          <p:cNvSpPr/>
          <p:nvPr/>
        </p:nvSpPr>
        <p:spPr>
          <a:xfrm>
            <a:off x="6581880" y="3232080"/>
            <a:ext cx="326880" cy="327240"/>
          </a:xfrm>
          <a:custGeom>
            <a:avLst/>
            <a:gdLst/>
            <a:ahLst/>
            <a:rect l="l" t="t" r="r" b="b"/>
            <a:pathLst>
              <a:path w="327025" h="327025">
                <a:moveTo>
                  <a:pt x="51349" y="105737"/>
                </a:moveTo>
                <a:lnTo>
                  <a:pt x="105737" y="51349"/>
                </a:lnTo>
                <a:lnTo>
                  <a:pt x="163513" y="109124"/>
                </a:lnTo>
                <a:lnTo>
                  <a:pt x="221288" y="51349"/>
                </a:lnTo>
                <a:lnTo>
                  <a:pt x="275676" y="105737"/>
                </a:lnTo>
                <a:lnTo>
                  <a:pt x="217901" y="163513"/>
                </a:lnTo>
                <a:lnTo>
                  <a:pt x="275676" y="221288"/>
                </a:lnTo>
                <a:lnTo>
                  <a:pt x="221288" y="275676"/>
                </a:lnTo>
                <a:lnTo>
                  <a:pt x="163513" y="217901"/>
                </a:lnTo>
                <a:lnTo>
                  <a:pt x="105737" y="275676"/>
                </a:lnTo>
                <a:lnTo>
                  <a:pt x="51349" y="221288"/>
                </a:lnTo>
                <a:lnTo>
                  <a:pt x="109124" y="163513"/>
                </a:lnTo>
                <a:lnTo>
                  <a:pt x="51349" y="105737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122"/>
          <p:cNvSpPr/>
          <p:nvPr/>
        </p:nvSpPr>
        <p:spPr>
          <a:xfrm rot="5400000">
            <a:off x="3683520" y="4882320"/>
            <a:ext cx="1439640" cy="1562040"/>
          </a:xfrm>
          <a:custGeom>
            <a:avLst/>
            <a:gdLst/>
            <a:ahLst/>
            <a:rect l="l" t="t" r="r" b="b"/>
            <a:pathLst>
              <a:path stroke="0" w="1439863" h="1562100">
                <a:moveTo>
                  <a:pt x="3614" y="702887"/>
                </a:moveTo>
                <a:cubicBezTo>
                  <a:pt x="43647" y="271070"/>
                  <a:pt x="400489" y="-42531"/>
                  <a:pt x="798156" y="4624"/>
                </a:cubicBezTo>
                <a:lnTo>
                  <a:pt x="719932" y="781050"/>
                </a:lnTo>
                <a:lnTo>
                  <a:pt x="3614" y="702887"/>
                </a:lnTo>
                <a:close/>
              </a:path>
              <a:path fill="none" w="1439863" h="1562100">
                <a:moveTo>
                  <a:pt x="3614" y="702887"/>
                </a:moveTo>
                <a:cubicBezTo>
                  <a:pt x="43647" y="271070"/>
                  <a:pt x="400489" y="-42531"/>
                  <a:pt x="798156" y="4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3"/>
          <p:cNvSpPr/>
          <p:nvPr/>
        </p:nvSpPr>
        <p:spPr>
          <a:xfrm>
            <a:off x="4977360" y="5018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842760" y="3673440"/>
            <a:ext cx="2291040" cy="2000160"/>
            <a:chOff x="842760" y="3673440"/>
            <a:chExt cx="2291040" cy="2000160"/>
          </a:xfrm>
        </p:grpSpPr>
        <p:sp>
          <p:nvSpPr>
            <p:cNvPr id="103" name="Straight Connector 23"/>
            <p:cNvSpPr/>
            <p:nvPr/>
          </p:nvSpPr>
          <p:spPr>
            <a:xfrm flipV="1">
              <a:off x="987480" y="3773160"/>
              <a:ext cx="1698480" cy="166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traight Connector 25"/>
            <p:cNvSpPr/>
            <p:nvPr/>
          </p:nvSpPr>
          <p:spPr>
            <a:xfrm flipH="1" flipV="1">
              <a:off x="2685600" y="3773160"/>
              <a:ext cx="232200" cy="166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31"/>
            <p:cNvSpPr/>
            <p:nvPr/>
          </p:nvSpPr>
          <p:spPr>
            <a:xfrm>
              <a:off x="987480" y="5442120"/>
              <a:ext cx="193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 rot="2613000">
              <a:off x="1010880" y="5059440"/>
              <a:ext cx="191880" cy="56520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5"/>
            <p:cNvSpPr/>
            <p:nvPr/>
          </p:nvSpPr>
          <p:spPr>
            <a:xfrm rot="21257400">
              <a:off x="2786040" y="5035320"/>
              <a:ext cx="191880" cy="56520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38"/>
            <p:cNvSpPr/>
            <p:nvPr/>
          </p:nvSpPr>
          <p:spPr>
            <a:xfrm flipH="1">
              <a:off x="1890360" y="3773520"/>
              <a:ext cx="795600" cy="166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rc 40"/>
            <p:cNvSpPr/>
            <p:nvPr/>
          </p:nvSpPr>
          <p:spPr>
            <a:xfrm>
              <a:off x="1836720" y="5210280"/>
              <a:ext cx="419040" cy="463320"/>
            </a:xfrm>
            <a:custGeom>
              <a:avLst/>
              <a:gdLst/>
              <a:ahLst/>
              <a:rect l="l" t="t" r="r" b="b"/>
              <a:pathLst>
                <a:path stroke="0" w="419038" h="463750">
                  <a:moveTo>
                    <a:pt x="209519" y="0"/>
                  </a:moveTo>
                  <a:cubicBezTo>
                    <a:pt x="325233" y="0"/>
                    <a:pt x="419038" y="103814"/>
                    <a:pt x="419038" y="231875"/>
                  </a:cubicBezTo>
                  <a:lnTo>
                    <a:pt x="209519" y="231875"/>
                  </a:lnTo>
                  <a:lnTo>
                    <a:pt x="209519" y="0"/>
                  </a:lnTo>
                  <a:close/>
                </a:path>
                <a:path fill="none" w="419038" h="463750">
                  <a:moveTo>
                    <a:pt x="209519" y="0"/>
                  </a:moveTo>
                  <a:cubicBezTo>
                    <a:pt x="325233" y="0"/>
                    <a:pt x="419038" y="103814"/>
                    <a:pt x="419038" y="2318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rc 41"/>
            <p:cNvSpPr/>
            <p:nvPr/>
          </p:nvSpPr>
          <p:spPr>
            <a:xfrm rot="9700200">
              <a:off x="2428560" y="3780720"/>
              <a:ext cx="488880" cy="393480"/>
            </a:xfrm>
            <a:custGeom>
              <a:avLst/>
              <a:gdLst/>
              <a:ahLst/>
              <a:rect l="l" t="t" r="r" b="b"/>
              <a:pathLst>
                <a:path stroke="0" w="488878" h="393870">
                  <a:moveTo>
                    <a:pt x="244439" y="0"/>
                  </a:moveTo>
                  <a:cubicBezTo>
                    <a:pt x="379439" y="0"/>
                    <a:pt x="488878" y="88171"/>
                    <a:pt x="488878" y="196935"/>
                  </a:cubicBezTo>
                  <a:lnTo>
                    <a:pt x="244439" y="196935"/>
                  </a:lnTo>
                  <a:lnTo>
                    <a:pt x="244439" y="0"/>
                  </a:lnTo>
                  <a:close/>
                </a:path>
                <a:path fill="none" w="488878" h="393870">
                  <a:moveTo>
                    <a:pt x="244439" y="0"/>
                  </a:moveTo>
                  <a:cubicBezTo>
                    <a:pt x="379439" y="0"/>
                    <a:pt x="488878" y="88171"/>
                    <a:pt x="488878" y="1969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42"/>
            <p:cNvSpPr/>
            <p:nvPr/>
          </p:nvSpPr>
          <p:spPr>
            <a:xfrm>
              <a:off x="2107440" y="50655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43"/>
            <p:cNvSpPr/>
            <p:nvPr/>
          </p:nvSpPr>
          <p:spPr>
            <a:xfrm>
              <a:off x="2405880" y="42357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Multiply 46"/>
            <p:cNvSpPr/>
            <p:nvPr/>
          </p:nvSpPr>
          <p:spPr>
            <a:xfrm>
              <a:off x="2806920" y="3673440"/>
              <a:ext cx="326880" cy="325440"/>
            </a:xfrm>
            <a:custGeom>
              <a:avLst/>
              <a:gdLst/>
              <a:ahLst/>
              <a:rect l="l" t="t" r="r" b="b"/>
              <a:pathLst>
                <a:path w="326977" h="325578">
                  <a:moveTo>
                    <a:pt x="51516" y="105327"/>
                  </a:moveTo>
                  <a:lnTo>
                    <a:pt x="105547" y="51064"/>
                  </a:lnTo>
                  <a:lnTo>
                    <a:pt x="163489" y="108757"/>
                  </a:lnTo>
                  <a:lnTo>
                    <a:pt x="221430" y="51064"/>
                  </a:lnTo>
                  <a:lnTo>
                    <a:pt x="275461" y="105327"/>
                  </a:lnTo>
                  <a:lnTo>
                    <a:pt x="217752" y="162789"/>
                  </a:lnTo>
                  <a:lnTo>
                    <a:pt x="275461" y="220251"/>
                  </a:lnTo>
                  <a:lnTo>
                    <a:pt x="221430" y="274514"/>
                  </a:lnTo>
                  <a:lnTo>
                    <a:pt x="163489" y="216821"/>
                  </a:lnTo>
                  <a:lnTo>
                    <a:pt x="105547" y="274514"/>
                  </a:lnTo>
                  <a:lnTo>
                    <a:pt x="51516" y="220251"/>
                  </a:lnTo>
                  <a:lnTo>
                    <a:pt x="109225" y="162789"/>
                  </a:lnTo>
                  <a:lnTo>
                    <a:pt x="51516" y="105327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24"/>
            <p:cNvSpPr/>
            <p:nvPr/>
          </p:nvSpPr>
          <p:spPr>
            <a:xfrm>
              <a:off x="1758240" y="5341320"/>
              <a:ext cx="284760" cy="24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25"/>
          <p:cNvSpPr/>
          <p:nvPr/>
        </p:nvSpPr>
        <p:spPr>
          <a:xfrm>
            <a:off x="5811120" y="1346040"/>
            <a:ext cx="141228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4=+/- k*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3=+/- k*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0=+/- k*q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2=+/- k*q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2"/>
          <p:cNvSpPr/>
          <p:nvPr/>
        </p:nvSpPr>
        <p:spPr>
          <a:xfrm rot="21359400">
            <a:off x="4091040" y="5270040"/>
            <a:ext cx="662040" cy="260280"/>
          </a:xfrm>
          <a:custGeom>
            <a:avLst/>
            <a:gdLst/>
            <a:ahLst/>
            <a:rect l="l" t="t" r="r" b="b"/>
            <a:pathLst>
              <a:path stroke="0" w="661987" h="260350">
                <a:moveTo>
                  <a:pt x="217514" y="7890"/>
                </a:moveTo>
                <a:cubicBezTo>
                  <a:pt x="288096" y="-2241"/>
                  <a:pt x="365343" y="-2626"/>
                  <a:pt x="436555" y="6798"/>
                </a:cubicBezTo>
                <a:cubicBezTo>
                  <a:pt x="705914" y="42445"/>
                  <a:pt x="743319" y="186229"/>
                  <a:pt x="497895" y="242589"/>
                </a:cubicBezTo>
                <a:cubicBezTo>
                  <a:pt x="427620" y="258727"/>
                  <a:pt x="344692" y="264118"/>
                  <a:pt x="264950" y="257732"/>
                </a:cubicBezTo>
                <a:cubicBezTo>
                  <a:pt x="9015" y="237236"/>
                  <a:pt x="-88553" y="113691"/>
                  <a:pt x="92823" y="39777"/>
                </a:cubicBezTo>
                <a:lnTo>
                  <a:pt x="330994" y="130175"/>
                </a:lnTo>
                <a:lnTo>
                  <a:pt x="217514" y="7890"/>
                </a:lnTo>
                <a:close/>
              </a:path>
              <a:path fill="none" w="661987" h="260350">
                <a:moveTo>
                  <a:pt x="217514" y="7890"/>
                </a:moveTo>
                <a:cubicBezTo>
                  <a:pt x="288096" y="-2241"/>
                  <a:pt x="365343" y="-2626"/>
                  <a:pt x="436555" y="6798"/>
                </a:cubicBezTo>
                <a:cubicBezTo>
                  <a:pt x="705914" y="42445"/>
                  <a:pt x="743319" y="186229"/>
                  <a:pt x="497895" y="242589"/>
                </a:cubicBezTo>
                <a:cubicBezTo>
                  <a:pt x="427620" y="258727"/>
                  <a:pt x="344692" y="264118"/>
                  <a:pt x="264950" y="257732"/>
                </a:cubicBezTo>
                <a:cubicBezTo>
                  <a:pt x="9015" y="237236"/>
                  <a:pt x="-88553" y="113691"/>
                  <a:pt x="92823" y="397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9"/>
          <p:cNvSpPr/>
          <p:nvPr/>
        </p:nvSpPr>
        <p:spPr>
          <a:xfrm>
            <a:off x="3861360" y="5075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Multiply 44"/>
          <p:cNvSpPr/>
          <p:nvPr/>
        </p:nvSpPr>
        <p:spPr>
          <a:xfrm>
            <a:off x="3705120" y="1224000"/>
            <a:ext cx="327240" cy="325440"/>
          </a:xfrm>
          <a:custGeom>
            <a:avLst/>
            <a:gdLst/>
            <a:ahLst/>
            <a:rect l="l" t="t" r="r" b="b"/>
            <a:pathLst>
              <a:path w="327025" h="325437">
                <a:moveTo>
                  <a:pt x="51547" y="105290"/>
                </a:moveTo>
                <a:lnTo>
                  <a:pt x="105539" y="51034"/>
                </a:lnTo>
                <a:lnTo>
                  <a:pt x="163513" y="108726"/>
                </a:lnTo>
                <a:lnTo>
                  <a:pt x="221486" y="51034"/>
                </a:lnTo>
                <a:lnTo>
                  <a:pt x="275478" y="105290"/>
                </a:lnTo>
                <a:lnTo>
                  <a:pt x="217769" y="162719"/>
                </a:lnTo>
                <a:lnTo>
                  <a:pt x="275478" y="220147"/>
                </a:lnTo>
                <a:lnTo>
                  <a:pt x="221486" y="274403"/>
                </a:lnTo>
                <a:lnTo>
                  <a:pt x="163513" y="216711"/>
                </a:lnTo>
                <a:lnTo>
                  <a:pt x="105539" y="274403"/>
                </a:lnTo>
                <a:lnTo>
                  <a:pt x="51547" y="220147"/>
                </a:lnTo>
                <a:lnTo>
                  <a:pt x="109256" y="162719"/>
                </a:lnTo>
                <a:lnTo>
                  <a:pt x="51547" y="10529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01560" y="1596960"/>
            <a:ext cx="2163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icubSim/cam/righ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5946120" y="839880"/>
            <a:ext cx="1855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viewer/cam/lef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5698080" y="1708200"/>
            <a:ext cx="2003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viewer/cam/righ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7200" y="3678120"/>
            <a:ext cx="2928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objectDetector/image/ou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723600" y="4276800"/>
            <a:ext cx="2486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objectDetector/targ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726480" y="3205080"/>
            <a:ext cx="2780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objectDetector/image/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5888520" y="3284640"/>
            <a:ext cx="16545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viewer/objec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13"/>
          <p:cNvCxnSpPr/>
          <p:nvPr/>
        </p:nvCxnSpPr>
        <p:spPr>
          <a:xfrm>
            <a:off x="2743200" y="1876320"/>
            <a:ext cx="2791440" cy="3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Rectangle 14"/>
          <p:cNvSpPr/>
          <p:nvPr/>
        </p:nvSpPr>
        <p:spPr>
          <a:xfrm>
            <a:off x="600480" y="1135080"/>
            <a:ext cx="2015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icubSim/cam/lef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16"/>
          <p:cNvCxnSpPr>
            <a:stCxn id="127" idx="3"/>
            <a:endCxn id="120" idx="1"/>
          </p:cNvCxnSpPr>
          <p:nvPr/>
        </p:nvCxnSpPr>
        <p:spPr>
          <a:xfrm flipV="1">
            <a:off x="2628720" y="1031040"/>
            <a:ext cx="330588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Straight Arrow Connector 18"/>
          <p:cNvCxnSpPr/>
          <p:nvPr/>
        </p:nvCxnSpPr>
        <p:spPr>
          <a:xfrm>
            <a:off x="2327400" y="2154240"/>
            <a:ext cx="11664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" name="Straight Arrow Connector 20"/>
          <p:cNvCxnSpPr>
            <a:stCxn id="122" idx="3"/>
          </p:cNvCxnSpPr>
          <p:nvPr/>
        </p:nvCxnSpPr>
        <p:spPr>
          <a:xfrm flipV="1">
            <a:off x="3676680" y="3499920"/>
            <a:ext cx="206244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Rectangle 33"/>
          <p:cNvSpPr/>
          <p:nvPr/>
        </p:nvSpPr>
        <p:spPr>
          <a:xfrm>
            <a:off x="268200" y="725400"/>
            <a:ext cx="2395800" cy="1339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4"/>
          <p:cNvSpPr/>
          <p:nvPr/>
        </p:nvSpPr>
        <p:spPr>
          <a:xfrm>
            <a:off x="276840" y="316080"/>
            <a:ext cx="1159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7"/>
          <p:cNvSpPr/>
          <p:nvPr/>
        </p:nvSpPr>
        <p:spPr>
          <a:xfrm>
            <a:off x="457200" y="3027240"/>
            <a:ext cx="3373560" cy="2318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5827680" y="3100320"/>
            <a:ext cx="2286000" cy="77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4"/>
          <p:cNvSpPr/>
          <p:nvPr/>
        </p:nvSpPr>
        <p:spPr>
          <a:xfrm>
            <a:off x="5680080" y="1628640"/>
            <a:ext cx="2092320" cy="77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5848200" y="662040"/>
            <a:ext cx="2286000" cy="77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601560" y="1596960"/>
            <a:ext cx="2163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icubSim/cam/righ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946120" y="839880"/>
            <a:ext cx="1855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viewer/cam/lef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5698080" y="1708200"/>
            <a:ext cx="2003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viewer/cam/righ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7200" y="3678120"/>
            <a:ext cx="2928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objectDetector/image/ou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23600" y="4276800"/>
            <a:ext cx="2486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objectDetector/targ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5808960" y="4592520"/>
            <a:ext cx="2286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headTracker/targ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726480" y="3205080"/>
            <a:ext cx="2780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objectDetector/image/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888520" y="3284640"/>
            <a:ext cx="16545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viewer/objec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13"/>
          <p:cNvCxnSpPr/>
          <p:nvPr/>
        </p:nvCxnSpPr>
        <p:spPr>
          <a:xfrm>
            <a:off x="2743200" y="1876320"/>
            <a:ext cx="2791440" cy="3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" name="Rectangle 14"/>
          <p:cNvSpPr/>
          <p:nvPr/>
        </p:nvSpPr>
        <p:spPr>
          <a:xfrm>
            <a:off x="600480" y="1135080"/>
            <a:ext cx="2015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icubSim/cam/lef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6"/>
          <p:cNvCxnSpPr>
            <a:stCxn id="146" idx="3"/>
            <a:endCxn id="138" idx="1"/>
          </p:cNvCxnSpPr>
          <p:nvPr/>
        </p:nvCxnSpPr>
        <p:spPr>
          <a:xfrm flipV="1">
            <a:off x="2628720" y="1031040"/>
            <a:ext cx="330588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" name="Straight Arrow Connector 18"/>
          <p:cNvCxnSpPr/>
          <p:nvPr/>
        </p:nvCxnSpPr>
        <p:spPr>
          <a:xfrm>
            <a:off x="2327400" y="2154240"/>
            <a:ext cx="11664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" name="Straight Arrow Connector 20"/>
          <p:cNvCxnSpPr>
            <a:stCxn id="140" idx="3"/>
          </p:cNvCxnSpPr>
          <p:nvPr/>
        </p:nvCxnSpPr>
        <p:spPr>
          <a:xfrm flipV="1">
            <a:off x="3676680" y="3499920"/>
            <a:ext cx="206244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Straight Arrow Connector 22"/>
          <p:cNvCxnSpPr>
            <a:stCxn id="141" idx="3"/>
          </p:cNvCxnSpPr>
          <p:nvPr/>
        </p:nvCxnSpPr>
        <p:spPr>
          <a:xfrm>
            <a:off x="3227400" y="4468680"/>
            <a:ext cx="2464560" cy="30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" name="Straight Arrow Connector 29"/>
          <p:cNvCxnSpPr/>
          <p:nvPr/>
        </p:nvCxnSpPr>
        <p:spPr>
          <a:xfrm>
            <a:off x="7157520" y="5374800"/>
            <a:ext cx="17388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2" name="Rectangle 33"/>
          <p:cNvSpPr/>
          <p:nvPr/>
        </p:nvSpPr>
        <p:spPr>
          <a:xfrm>
            <a:off x="268200" y="725400"/>
            <a:ext cx="2395800" cy="1339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4"/>
          <p:cNvSpPr/>
          <p:nvPr/>
        </p:nvSpPr>
        <p:spPr>
          <a:xfrm>
            <a:off x="276840" y="316080"/>
            <a:ext cx="1159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5"/>
          <p:cNvSpPr/>
          <p:nvPr/>
        </p:nvSpPr>
        <p:spPr>
          <a:xfrm>
            <a:off x="6945120" y="5875200"/>
            <a:ext cx="20293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ack to simula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ad/rpc: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ad/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7"/>
          <p:cNvSpPr/>
          <p:nvPr/>
        </p:nvSpPr>
        <p:spPr>
          <a:xfrm>
            <a:off x="457200" y="3027240"/>
            <a:ext cx="3373560" cy="2318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2"/>
          <p:cNvSpPr/>
          <p:nvPr/>
        </p:nvSpPr>
        <p:spPr>
          <a:xfrm>
            <a:off x="5722920" y="4492800"/>
            <a:ext cx="2286000" cy="77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3"/>
          <p:cNvSpPr/>
          <p:nvPr/>
        </p:nvSpPr>
        <p:spPr>
          <a:xfrm>
            <a:off x="5827680" y="3100320"/>
            <a:ext cx="2286000" cy="77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4"/>
          <p:cNvSpPr/>
          <p:nvPr/>
        </p:nvSpPr>
        <p:spPr>
          <a:xfrm>
            <a:off x="5680080" y="1628640"/>
            <a:ext cx="2092320" cy="77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5"/>
          <p:cNvSpPr/>
          <p:nvPr/>
        </p:nvSpPr>
        <p:spPr>
          <a:xfrm>
            <a:off x="5848200" y="662040"/>
            <a:ext cx="2286000" cy="77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</dc:creator>
  <dc:description/>
  <dc:language>en-US</dc:language>
  <cp:lastModifiedBy>nat</cp:lastModifiedBy>
  <dcterms:modified xsi:type="dcterms:W3CDTF">2011-07-19T21:50:56Z</dcterms:modified>
  <cp:revision>17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